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CB67-5850-4D66-8FC1-9522E6D00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C956-E759-40B3-B96E-157B93B6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9535-6E72-43A5-832D-2627CC1EE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36BC-59A9-49C9-A22C-F9FF89F0B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CBF3-BFF1-4135-A702-884B9329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4276-357F-49D5-990E-871F577B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81C6-B276-4D48-A621-0105C187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22B8-A39D-4A00-AA7F-F89E5492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0D4F-8E7A-4E6E-AD6F-043A06BE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39E8-2F23-41AB-8200-B7CE8EE2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BE97-75AD-48E3-9BCF-0D9E849F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6C3A-8E4A-46A0-A9A1-8E96A17A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E005-6E0E-47EE-AC80-FB53A0FC2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oisestate.edu/socwork/392/CSB/The%20Triangle%20Shirtwaist%20Fire.ppt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Strike fight"/>
          <p:cNvPicPr/>
          <p:nvPr/>
        </p:nvPicPr>
        <p:blipFill>
          <a:blip r:embed="rId1"/>
          <a:stretch/>
        </p:blipFill>
        <p:spPr>
          <a:xfrm>
            <a:off x="2286000" y="1752480"/>
            <a:ext cx="6553080" cy="3687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ikers and Federal troo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90920" y="228600"/>
            <a:ext cx="5051160" cy="645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ve Barg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otiating between workers and employ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ngle Shirtwaist Factory F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0" y="177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Click this photo&#13;&#10;of the shop floor to view presenta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1905120"/>
            <a:ext cx="57150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6278400" cy="41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Triangle Shirtwaist Company"/>
          <p:cNvPicPr/>
          <p:nvPr/>
        </p:nvPicPr>
        <p:blipFill>
          <a:blip r:embed="rId1"/>
          <a:stretch/>
        </p:blipFill>
        <p:spPr>
          <a:xfrm>
            <a:off x="2590920" y="1447920"/>
            <a:ext cx="5783040" cy="380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Photograph:Next of kin attempt to identify victims of the Triangle Shirtwaist Company fire, New York City, 1911."/>
          <p:cNvPicPr/>
          <p:nvPr/>
        </p:nvPicPr>
        <p:blipFill>
          <a:blip r:embed="rId1"/>
          <a:stretch/>
        </p:blipFill>
        <p:spPr>
          <a:xfrm>
            <a:off x="2362320" y="1143000"/>
            <a:ext cx="6518160" cy="41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come of incid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45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wner acquit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or laws changed for women and child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ct fir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0"/>
            <a:ext cx="46242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07880"/>
            <a:ext cx="9144000" cy="6042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9-10-04T22:43:19Z</dcterms:modified>
  <cp:revision>1</cp:revision>
  <dc:subject/>
  <dc:title>PowerPoint Presentation</dc:title>
</cp:coreProperties>
</file>